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D1C-F981-46B3-A252-1FF82341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211-2B26-4C92-9A7C-7E3C83A9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ECF-8C9F-4972-A859-A5519F45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B7F-2B08-4058-8AD6-F06625B9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9450-1591-42C0-8276-5366F7E7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2628-DDF8-49F8-AB4D-BFC94741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9D68-921C-4723-97D4-4A917AA3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3F27-0A58-47C2-ADCA-E0A9D8C6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A6F9-F778-4590-8BCB-4DDECB45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4236-930E-430F-830C-42842E31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20FD-BCBB-49B1-AAF8-782BEC42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870-6953-4475-B64D-1B77F256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B8D9-EC38-49D2-B0F9-98DFF164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F811-FDD4-4BCB-910E-085DF597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E579-B2D9-434A-B50A-02B57236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78AD-A7C7-4F1E-9FB5-B988B399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60BF-8952-4901-B1F8-9A20252E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13F-7E33-46CB-8DA3-8C30AE7B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7214-03F4-4D86-B5B8-DC2F139D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E0D-AF8D-4FD1-AE00-D9221C6B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F37-1954-49CD-AB7F-3E756E4E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AC9-73D2-4206-AEC0-40C9B085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F2E2-B5EE-4E82-A73A-88F17A2A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2AF-B944-4638-8F7D-27D16285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4A84-2785-4DFA-BCCE-14178EE3D90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6144-6A13-4697-A754-92C59B4274C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arm-Up Senten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first modern day Olympic Games taked place in Athens Greece in 189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en he began playing pool for exercise louis XIV made the game vary popular in Fra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Journal #7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ick your favorite TV show, movie, or book and write a sequel to i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arm-Up Senten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erman leader Adolph Hitler born in Braunau, Austria in 1889 took his own life at 330 pm on May 1 1945 in Berlin German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learned this when I visited my uncles farm Pigs can get sunburned just like humans.  This explains why pigs hang out in cool soft mud whenever possibl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Journal #8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rite about your name.  How did you get it?  What does it mean?  Do you like it?  Would you change it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riday Warm-up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ke up a word search puzzle containing ten action verbs.  Exchange papers with a neighbor  and solve each other’s puzzles.  Exchange papers again for scoring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35:53Z</dcterms:created>
  <dc:creator>tpagel</dc:creator>
  <dc:description/>
  <dc:language>en-US</dc:language>
  <cp:lastModifiedBy>tpagel</cp:lastModifiedBy>
  <dcterms:modified xsi:type="dcterms:W3CDTF">2010-06-03T16:36:14Z</dcterms:modified>
  <cp:revision>1</cp:revision>
  <dc:subject/>
  <dc:title>Warm-Up Sentences</dc:title>
</cp:coreProperties>
</file>